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5ACA-7181-4A92-94EC-0D80FF2B0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1D03-51AA-445E-97CB-9765DE7A4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3C30-640B-4348-9576-A7860DDBB7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C87-1931-4A96-A99A-381BBC99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33F-EFCD-4EA5-8CE6-0089062C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AEB-D48C-444E-AAED-7882009A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1A47-7E1A-4099-B629-62865283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55D6-F345-42B9-8F21-2C8A2337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4FC1-C69A-4ECB-B176-AA1AB1A5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886E-675D-46CC-8A44-C74FB873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853C-0D9D-4CE7-913D-381C99DB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15A-2110-4624-A693-A6CC7DAC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BD6-B18B-43BD-A0F6-3BDD84B6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743C-86D4-4EF6-8CB4-B0F4AACD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DA6E-9D6B-4A53-9564-28F31C1B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3CFC-AF46-4227-87E5-5B406A140DDF}" type="slidenum">
              <a:rPr b="0" lang="sw-K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search o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ustainable Intensification in the CGIAR Research Program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9528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52.jpg                                                         0004BEA7Macintosh HD                   B3585E45:"/>
          <p:cNvPicPr/>
          <p:nvPr/>
        </p:nvPicPr>
        <p:blipFill>
          <a:blip r:embed="rId1">
            <a:alphaModFix amt="58000"/>
          </a:blip>
          <a:srcRect l="0" t="12283" r="0" b="24258"/>
          <a:stretch/>
        </p:blipFill>
        <p:spPr>
          <a:xfrm>
            <a:off x="1714680" y="2438280"/>
            <a:ext cx="56768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umidtropics: Integrated Systems for the Humid Tr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rst of the four specific objectives i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 an integrated research program 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rainfed smallholder farming systems in the humid and sub-humid trop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gram structure is built around the ff. complementary Strategic The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s Analysis and Syn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ed System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ing and Institutional Inno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6"/>
          <p:cNvSpPr/>
          <p:nvPr/>
        </p:nvSpPr>
        <p:spPr>
          <a:xfrm>
            <a:off x="53352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idtropics Program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686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43"/>
          <p:cNvGrpSpPr/>
          <p:nvPr/>
        </p:nvGrpSpPr>
        <p:grpSpPr>
          <a:xfrm>
            <a:off x="3352680" y="76320"/>
            <a:ext cx="5849280" cy="6705360"/>
            <a:chOff x="3352680" y="76320"/>
            <a:chExt cx="5849280" cy="6705360"/>
          </a:xfrm>
        </p:grpSpPr>
        <p:pic>
          <p:nvPicPr>
            <p:cNvPr id="113" name="Picture 9" descr=""/>
            <p:cNvPicPr/>
            <p:nvPr/>
          </p:nvPicPr>
          <p:blipFill>
            <a:blip r:embed="rId1"/>
            <a:srcRect l="3225" t="11966" r="1613" b="12419"/>
            <a:stretch/>
          </p:blipFill>
          <p:spPr>
            <a:xfrm>
              <a:off x="3352680" y="76320"/>
              <a:ext cx="579132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25"/>
            <p:cNvSpPr/>
            <p:nvPr/>
          </p:nvSpPr>
          <p:spPr>
            <a:xfrm>
              <a:off x="3951000" y="3073320"/>
              <a:ext cx="11196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Western 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843720" y="2783160"/>
              <a:ext cx="2355480" cy="3963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5"/>
            <p:cNvSpPr/>
            <p:nvPr/>
          </p:nvSpPr>
          <p:spPr>
            <a:xfrm>
              <a:off x="4582080" y="3967200"/>
              <a:ext cx="1056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entral 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8"/>
            <p:cNvSpPr/>
            <p:nvPr/>
          </p:nvSpPr>
          <p:spPr>
            <a:xfrm>
              <a:off x="5654520" y="3738960"/>
              <a:ext cx="1076400" cy="4608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4689000" y="1808640"/>
              <a:ext cx="1043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Western mo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avan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8"/>
            <p:cNvSpPr/>
            <p:nvPr/>
          </p:nvSpPr>
          <p:spPr>
            <a:xfrm>
              <a:off x="4393800" y="2386800"/>
              <a:ext cx="1374840" cy="3963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7948440" y="5492520"/>
              <a:ext cx="76428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outher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28"/>
            <p:cNvSpPr/>
            <p:nvPr/>
          </p:nvSpPr>
          <p:spPr>
            <a:xfrm rot="17286000">
              <a:off x="8169840" y="4803480"/>
              <a:ext cx="1237680" cy="4647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8"/>
            <p:cNvSpPr/>
            <p:nvPr/>
          </p:nvSpPr>
          <p:spPr>
            <a:xfrm>
              <a:off x="7143480" y="3805920"/>
              <a:ext cx="1099800" cy="12438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5"/>
            <p:cNvSpPr/>
            <p:nvPr/>
          </p:nvSpPr>
          <p:spPr>
            <a:xfrm>
              <a:off x="6392160" y="4551840"/>
              <a:ext cx="76428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outher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mo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avan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8"/>
            <p:cNvSpPr/>
            <p:nvPr/>
          </p:nvSpPr>
          <p:spPr>
            <a:xfrm rot="1655400">
              <a:off x="7331400" y="2421000"/>
              <a:ext cx="606240" cy="151092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5"/>
            <p:cNvSpPr/>
            <p:nvPr/>
          </p:nvSpPr>
          <p:spPr>
            <a:xfrm>
              <a:off x="7032600" y="1864080"/>
              <a:ext cx="12049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ast and Centr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igh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5"/>
          <p:cNvSpPr/>
          <p:nvPr/>
        </p:nvSpPr>
        <p:spPr>
          <a:xfrm>
            <a:off x="380880" y="762120"/>
            <a:ext cx="29718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uthern moist savan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jor farming systems (% of the land area by Dixon classificatio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real-root crop mixed (35%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ot crop (26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ze mixed (2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rcRect l="1498" t="3073" r="1519" b="0"/>
          <a:stretch/>
        </p:blipFill>
        <p:spPr>
          <a:xfrm>
            <a:off x="533520" y="990720"/>
            <a:ext cx="8001000" cy="5562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533520" y="228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idtropics 6-step Model: Translating Research to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P 1.2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397160"/>
            <a:ext cx="8381880" cy="39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15-year targets in the Action A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Increase staple food yields by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Increase average farm income by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Lift 25% of poor households above th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Reduce the number of malnourished children by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Nutrient depletion on 40% of farms reversed to sustainable nutrien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P 1.1: Dryland Systems</a:t>
            </a:r>
            <a:br>
              <a:rPr sz="32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grated Agricultural Production Systems for the Poor and Vulnerable in Dry Areas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rge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as/systems with the deepest endemic poverty and most vulnerable populations often associated with severe natural resource degradation and extreme environmental vari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s with the greatest potential for impact on poverty in the short to medium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P 1.1 Strategic Research Theme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1: Approaches and models for strengthening innovation systems, building stakeholder innovation capacity, and linking knowledge to policy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2: Reducing vulnerability and managing risk, leading to resilient dryland agro-ecosystems with less vulnerable and improved livelihoods of rural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3: Sustainable intensification for more productive, profitable and diversified dryland agriculture with well-established linkages to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4: Measuring impact and cross-regional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 rot="16200000">
            <a:off x="3384360" y="154620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1701720" y="2521080"/>
            <a:ext cx="4535640" cy="1585800"/>
          </a:xfrm>
          <a:prstGeom prst="rtTriangle">
            <a:avLst/>
          </a:prstGeom>
          <a:solidFill>
            <a:srgbClr val="cc33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 flipH="1">
            <a:off x="3047400" y="2517840"/>
            <a:ext cx="4537080" cy="1585800"/>
          </a:xfrm>
          <a:prstGeom prst="rtTriangle">
            <a:avLst/>
          </a:prstGeom>
          <a:solidFill>
            <a:srgbClr val="99cc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 rot="5400000">
            <a:off x="3384000" y="-190008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801880" y="612720"/>
            <a:ext cx="35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alibri"/>
                <a:ea typeface="Calibri"/>
              </a:rPr>
              <a:t>SRT1. Better functioning innov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 rot="19846200">
            <a:off x="1253160" y="1440000"/>
            <a:ext cx="18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1 Innova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 rot="1661400">
            <a:off x="6470280" y="15843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3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025880" y="12654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2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2893320" y="541332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RT4. Targeting, character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&amp;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 rot="1396800">
            <a:off x="1038240" y="434628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1 Future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 rot="20110200">
            <a:off x="5855400" y="4346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3 Measuring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2675160" y="5119560"/>
            <a:ext cx="37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2 Characterization and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 rot="1163400">
            <a:off x="1694520" y="3006720"/>
            <a:ext cx="27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2. Reduced vulner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&amp;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 rot="20458800">
            <a:off x="4822920" y="2936880"/>
            <a:ext cx="29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3. Sustainable inten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812240" y="338292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1811520" y="36115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181224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6246000" y="345924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6250320" y="36576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625392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3"/>
          <p:cNvSpPr/>
          <p:nvPr/>
        </p:nvSpPr>
        <p:spPr>
          <a:xfrm>
            <a:off x="4392720" y="3352680"/>
            <a:ext cx="433440" cy="82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4"/>
          <p:cNvSpPr/>
          <p:nvPr/>
        </p:nvSpPr>
        <p:spPr>
          <a:xfrm rot="2816400">
            <a:off x="4416840" y="3766320"/>
            <a:ext cx="201960" cy="26640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5"/>
          <p:cNvSpPr/>
          <p:nvPr/>
        </p:nvSpPr>
        <p:spPr>
          <a:xfrm rot="2816400">
            <a:off x="4588200" y="3502800"/>
            <a:ext cx="201600" cy="26676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6"/>
          <p:cNvSpPr/>
          <p:nvPr/>
        </p:nvSpPr>
        <p:spPr>
          <a:xfrm flipH="1" flipV="1">
            <a:off x="4594320" y="3720600"/>
            <a:ext cx="158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685800" y="6411960"/>
            <a:ext cx="80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CRP1.1 Strategic Research Themes (SRTs) &amp; their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74520" y="152280"/>
            <a:ext cx="9069480" cy="54104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380880" y="57150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P 1.1 Benchmark Areas focusing on reducing vulnerability (SRT2 type) or on sustainable intensification (SRT3 type). Circles/ovals indicate the 5 target reg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562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P 1.1 Action, Satellite and Knowledge Sharing (KSS) Sites in East and Souther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10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od, energy, water and material resources are being driven towards critical thres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fact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inued population grow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ing consumption patter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change and environmental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d negative impact on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contribution to natural capital &amp; environment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aches should consider the trade-offs, local complexities; &amp; the social, economic and political persp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ptual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chmark area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ed Natural Resources Management (INRM)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ro-ecological Intensification (AE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f: CN on SI of maize-legume-livestock integrated farming systems in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0 cases of projects in 20 countries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missioned by the UK Gov’t Office of Science Foresight project on Global Food and Farming Futures [Ref: Pretty, Toulmin, &amp; Williams (Eds.). Sustainable intensification: increasing productivity in African food and agricultural systems. Int. J. Agric. Sustainability 9 (1) 201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ience and farmer inputs into technologies &amp;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vel social infrastructure that builds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ment of farmer knowledge and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private sector for good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 on women’s educational, microfinance, &amp; ag. tech.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ing availability of microfinance and rural 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ing public sector support for agri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GIAR Vision and System Level 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reduce poverty and hunger, improve human health and nutrition, and enhance ecosystem resilience through high-quality international agricultural research, partnership and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ing rural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nutrition and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management of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GIAR Research Programs (CR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e process will see the operations of the CGIAR implemented through a number Research Programs (CRP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Ps are the main mechanism by which the CGIAR will achieve the greater alignment of research outputs with the four System Level Outco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imed to better coordinate R4D efforts, enhance efficiencies, and encourage cooperation and collaboration with a focus on effective partnerships to achieve more development impa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IAR Research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487440"/>
          <a:ext cx="8229600" cy="6370560"/>
        </p:xfrm>
        <a:graphic>
          <a:graphicData uri="http://schemas.openxmlformats.org/drawingml/2006/table">
            <a:tbl>
              <a:tblPr/>
              <a:tblGrid>
                <a:gridCol w="792000"/>
                <a:gridCol w="5639040"/>
                <a:gridCol w="1798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 Cen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production systems in dry 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R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ystems for the humid trop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atic agricultural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ies, institutions and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SP – A global rice science partners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s, tubers and bana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 leg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land cer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t, milk and 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ulture for nutrition and h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, land and eco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sts, trees and agrofore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change, agriculture, food secu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1840" y="274320"/>
            <a:ext cx="845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GIAR System on-going Reform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05732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od security, Poverty, Natural  Resources, Under-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4" descr=""/>
          <p:cNvPicPr/>
          <p:nvPr/>
        </p:nvPicPr>
        <p:blipFill>
          <a:blip r:embed="rId1"/>
          <a:srcRect l="0" t="12736" r="0" b="7448"/>
          <a:stretch/>
        </p:blipFill>
        <p:spPr>
          <a:xfrm>
            <a:off x="4456080" y="1951200"/>
            <a:ext cx="4483080" cy="470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31840" y="1951200"/>
            <a:ext cx="3886200" cy="47037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67" name="Rectangle 6"/>
          <p:cNvSpPr/>
          <p:nvPr/>
        </p:nvSpPr>
        <p:spPr>
          <a:xfrm>
            <a:off x="546120" y="3710160"/>
            <a:ext cx="33796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Narrow"/>
              </a:rPr>
              <a:t>Impact by 2025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Increase yield 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Sustain annual growth 0.5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R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educe poverty 1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2"/>
          <p:cNvSpPr/>
          <p:nvPr/>
        </p:nvSpPr>
        <p:spPr>
          <a:xfrm>
            <a:off x="838080" y="147600"/>
            <a:ext cx="7543800" cy="671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Group 47" descr=""/>
          <p:cNvPicPr/>
          <p:nvPr/>
        </p:nvPicPr>
        <p:blipFill>
          <a:blip r:embed="rId1"/>
          <a:stretch/>
        </p:blipFill>
        <p:spPr>
          <a:xfrm>
            <a:off x="1749600" y="4608360"/>
            <a:ext cx="1341360" cy="1395720"/>
          </a:xfrm>
          <a:prstGeom prst="rect">
            <a:avLst/>
          </a:prstGeom>
          <a:ln w="0">
            <a:noFill/>
          </a:ln>
        </p:spPr>
      </p:pic>
      <p:sp>
        <p:nvSpPr>
          <p:cNvPr id="70" name="Freeform 50"/>
          <p:cNvSpPr/>
          <p:nvPr/>
        </p:nvSpPr>
        <p:spPr>
          <a:xfrm>
            <a:off x="2241720" y="2457360"/>
            <a:ext cx="4959360" cy="2957760"/>
          </a:xfrm>
          <a:custGeom>
            <a:avLst/>
            <a:gdLst>
              <a:gd name="textAreaLeft" fmla="*/ 0 w 4959360"/>
              <a:gd name="textAreaRight" fmla="*/ 4959720 w 4959360"/>
              <a:gd name="textAreaTop" fmla="*/ 0 h 2957760"/>
              <a:gd name="textAreaBottom" fmla="*/ 2958120 h 2957760"/>
            </a:gdLst>
            <a:ahLst/>
            <a:rect l="textAreaLeft" t="textAreaTop" r="textAreaRight" b="textAreaBottom"/>
            <a:pathLst>
              <a:path w="3360" h="1968">
                <a:moveTo>
                  <a:pt x="1776" y="1968"/>
                </a:moveTo>
                <a:lnTo>
                  <a:pt x="0" y="1392"/>
                </a:lnTo>
                <a:lnTo>
                  <a:pt x="0" y="0"/>
                </a:lnTo>
                <a:lnTo>
                  <a:pt x="3360" y="0"/>
                </a:lnTo>
                <a:lnTo>
                  <a:pt x="3360" y="1440"/>
                </a:lnTo>
                <a:lnTo>
                  <a:pt x="1776" y="1968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311560" y="2529000"/>
            <a:ext cx="5029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P 1.2 Humidtropics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s                    NRM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Rectangle 5"/>
          <p:cNvGrpSpPr/>
          <p:nvPr/>
        </p:nvGrpSpPr>
        <p:grpSpPr>
          <a:xfrm>
            <a:off x="1359000" y="2120760"/>
            <a:ext cx="6657840" cy="274680"/>
            <a:chOff x="1359000" y="2120760"/>
            <a:chExt cx="6657840" cy="274680"/>
          </a:xfrm>
        </p:grpSpPr>
        <p:pic>
          <p:nvPicPr>
            <p:cNvPr id="73" name="Rectangle 5" descr=""/>
            <p:cNvPicPr/>
            <p:nvPr/>
          </p:nvPicPr>
          <p:blipFill>
            <a:blip r:embed="rId2"/>
            <a:stretch/>
          </p:blipFill>
          <p:spPr>
            <a:xfrm>
              <a:off x="1359000" y="2120760"/>
              <a:ext cx="665784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371600" y="2133720"/>
              <a:ext cx="66294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6"/>
          <p:cNvSpPr/>
          <p:nvPr/>
        </p:nvSpPr>
        <p:spPr>
          <a:xfrm>
            <a:off x="7201080" y="2168640"/>
            <a:ext cx="97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311560" y="2168640"/>
            <a:ext cx="48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914400" y="2529000"/>
            <a:ext cx="1257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y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201080" y="2529000"/>
            <a:ext cx="1257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ua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2286000" y="2133720"/>
            <a:ext cx="444600" cy="264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6705720" y="2133720"/>
            <a:ext cx="495360" cy="237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304920" y="533520"/>
            <a:ext cx="213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3: Sustainable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Group 16" descr=""/>
          <p:cNvPicPr/>
          <p:nvPr/>
        </p:nvPicPr>
        <p:blipFill>
          <a:blip r:embed="rId5"/>
          <a:stretch/>
        </p:blipFill>
        <p:spPr>
          <a:xfrm>
            <a:off x="2432160" y="500040"/>
            <a:ext cx="1212840" cy="102384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8"/>
          <p:cNvSpPr/>
          <p:nvPr/>
        </p:nvSpPr>
        <p:spPr>
          <a:xfrm>
            <a:off x="3632040" y="509760"/>
            <a:ext cx="1257480" cy="100008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3798720" y="552600"/>
            <a:ext cx="107640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in leg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1"/>
          <p:cNvSpPr/>
          <p:nvPr/>
        </p:nvSpPr>
        <p:spPr>
          <a:xfrm>
            <a:off x="4889520" y="509760"/>
            <a:ext cx="1257120" cy="100008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5056200" y="533520"/>
            <a:ext cx="1076400" cy="62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s, Tubers, &amp; Bana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4"/>
          <p:cNvSpPr/>
          <p:nvPr/>
        </p:nvSpPr>
        <p:spPr>
          <a:xfrm>
            <a:off x="6146640" y="509760"/>
            <a:ext cx="1187640" cy="100008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7"/>
          <p:cNvSpPr/>
          <p:nvPr/>
        </p:nvSpPr>
        <p:spPr>
          <a:xfrm>
            <a:off x="2311560" y="1519200"/>
            <a:ext cx="48895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 of new crop varieties, best management technologies &amp; livestock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oup 46" descr=""/>
          <p:cNvPicPr/>
          <p:nvPr/>
        </p:nvPicPr>
        <p:blipFill>
          <a:blip r:embed="rId6"/>
          <a:stretch/>
        </p:blipFill>
        <p:spPr>
          <a:xfrm>
            <a:off x="3005280" y="5005440"/>
            <a:ext cx="1341360" cy="1395360"/>
          </a:xfrm>
          <a:prstGeom prst="rect">
            <a:avLst/>
          </a:prstGeom>
          <a:ln w="0">
            <a:noFill/>
          </a:ln>
        </p:spPr>
      </p:pic>
      <p:pic>
        <p:nvPicPr>
          <p:cNvPr id="90" name="Group 53" descr=""/>
          <p:cNvPicPr/>
          <p:nvPr/>
        </p:nvPicPr>
        <p:blipFill>
          <a:blip r:embed="rId7"/>
          <a:stretch/>
        </p:blipFill>
        <p:spPr>
          <a:xfrm>
            <a:off x="4267080" y="5400720"/>
            <a:ext cx="1262160" cy="1396800"/>
          </a:xfrm>
          <a:prstGeom prst="rect">
            <a:avLst/>
          </a:prstGeom>
          <a:ln w="0">
            <a:noFill/>
          </a:ln>
        </p:spPr>
      </p:pic>
      <p:pic>
        <p:nvPicPr>
          <p:cNvPr id="91" name="Group 52" descr=""/>
          <p:cNvPicPr/>
          <p:nvPr/>
        </p:nvPicPr>
        <p:blipFill>
          <a:blip r:embed="rId8"/>
          <a:stretch/>
        </p:blipFill>
        <p:spPr>
          <a:xfrm>
            <a:off x="5389560" y="4968720"/>
            <a:ext cx="1266840" cy="1395720"/>
          </a:xfrm>
          <a:prstGeom prst="rect">
            <a:avLst/>
          </a:prstGeom>
          <a:ln w="0">
            <a:noFill/>
          </a:ln>
        </p:spPr>
      </p:pic>
      <p:pic>
        <p:nvPicPr>
          <p:cNvPr id="92" name="Group 51" descr=""/>
          <p:cNvPicPr/>
          <p:nvPr/>
        </p:nvPicPr>
        <p:blipFill>
          <a:blip r:embed="rId9"/>
          <a:stretch/>
        </p:blipFill>
        <p:spPr>
          <a:xfrm>
            <a:off x="6437160" y="4608360"/>
            <a:ext cx="1262160" cy="1395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8"/>
          <p:cNvSpPr/>
          <p:nvPr/>
        </p:nvSpPr>
        <p:spPr>
          <a:xfrm>
            <a:off x="3106800" y="42908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ad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9"/>
          <p:cNvSpPr/>
          <p:nvPr/>
        </p:nvSpPr>
        <p:spPr>
          <a:xfrm>
            <a:off x="4132440" y="4416480"/>
            <a:ext cx="148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Soil Fertil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0"/>
          <p:cNvSpPr/>
          <p:nvPr/>
        </p:nvSpPr>
        <p:spPr>
          <a:xfrm>
            <a:off x="5315040" y="43322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st mar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1"/>
          <p:cNvSpPr/>
          <p:nvPr/>
        </p:nvSpPr>
        <p:spPr>
          <a:xfrm>
            <a:off x="6145200" y="394164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bon 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4"/>
          <p:cNvSpPr/>
          <p:nvPr/>
        </p:nvSpPr>
        <p:spPr>
          <a:xfrm>
            <a:off x="2101680" y="397188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5"/>
          <p:cNvSpPr/>
          <p:nvPr/>
        </p:nvSpPr>
        <p:spPr>
          <a:xfrm>
            <a:off x="3848040" y="3787920"/>
            <a:ext cx="1257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6"/>
          <p:cNvSpPr/>
          <p:nvPr/>
        </p:nvSpPr>
        <p:spPr>
          <a:xfrm>
            <a:off x="3778200" y="2841480"/>
            <a:ext cx="174600" cy="198720"/>
          </a:xfrm>
          <a:custGeom>
            <a:avLst/>
            <a:gdLst>
              <a:gd name="textAreaLeft" fmla="*/ 0 w 174600"/>
              <a:gd name="textAreaRight" fmla="*/ 174960 w 17460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20" h="132">
                <a:moveTo>
                  <a:pt x="0" y="132"/>
                </a:moveTo>
                <a:lnTo>
                  <a:pt x="1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7"/>
          <p:cNvSpPr/>
          <p:nvPr/>
        </p:nvSpPr>
        <p:spPr>
          <a:xfrm flipH="1">
            <a:off x="3263760" y="3328920"/>
            <a:ext cx="2095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60"/>
          <p:cNvGrpSpPr/>
          <p:nvPr/>
        </p:nvGrpSpPr>
        <p:grpSpPr>
          <a:xfrm>
            <a:off x="5494320" y="2876400"/>
            <a:ext cx="733320" cy="704520"/>
            <a:chOff x="5494320" y="2876400"/>
            <a:chExt cx="733320" cy="704520"/>
          </a:xfrm>
        </p:grpSpPr>
        <p:sp>
          <p:nvSpPr>
            <p:cNvPr id="102" name="Freeform 58"/>
            <p:cNvSpPr/>
            <p:nvPr/>
          </p:nvSpPr>
          <p:spPr>
            <a:xfrm flipH="1">
              <a:off x="5494320" y="2876400"/>
              <a:ext cx="174240" cy="198720"/>
            </a:xfrm>
            <a:custGeom>
              <a:avLst/>
              <a:gdLst>
                <a:gd name="textAreaLeft" fmla="*/ 360 w 174240"/>
                <a:gd name="textAreaRight" fmla="*/ 174960 w 17424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20" h="132">
                  <a:moveTo>
                    <a:pt x="0" y="132"/>
                  </a:move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59"/>
            <p:cNvSpPr/>
            <p:nvPr/>
          </p:nvSpPr>
          <p:spPr>
            <a:xfrm>
              <a:off x="6018480" y="3364200"/>
              <a:ext cx="209160" cy="21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22"/>
          <p:cNvSpPr/>
          <p:nvPr/>
        </p:nvSpPr>
        <p:spPr>
          <a:xfrm>
            <a:off x="6248520" y="676440"/>
            <a:ext cx="1076040" cy="31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8"/>
          <p:cNvSpPr/>
          <p:nvPr/>
        </p:nvSpPr>
        <p:spPr>
          <a:xfrm>
            <a:off x="7391520" y="21304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9"/>
          <p:cNvSpPr/>
          <p:nvPr/>
        </p:nvSpPr>
        <p:spPr>
          <a:xfrm>
            <a:off x="1447920" y="21337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0"/>
          <p:cNvSpPr/>
          <p:nvPr/>
        </p:nvSpPr>
        <p:spPr>
          <a:xfrm>
            <a:off x="3962520" y="21337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infall Grad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3:46:35Z</dcterms:created>
  <dc:creator>Woomer</dc:creator>
  <dc:description/>
  <dc:language>en-US</dc:language>
  <cp:lastModifiedBy>IT-USER</cp:lastModifiedBy>
  <dcterms:modified xsi:type="dcterms:W3CDTF">2012-02-06T06:31:59Z</dcterms:modified>
  <cp:revision>105</cp:revision>
  <dc:subject/>
  <dc:title>Slide 1</dc:title>
</cp:coreProperties>
</file>